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4074-DB9C-4A96-B729-074E3CE5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9319-C910-4AE3-ACA3-8585DD6B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46E1-4C58-482A-A04D-397B5594A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E093-C8F0-4E4F-A6B3-FF3A650F6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31F7-F9AB-4499-AB79-4F47A316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E77C-C515-44BB-8C91-9C2BAAC0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C269-E292-4EE0-96DA-1B76A687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43F5-2D64-4C33-9DB5-65F9AFAB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1190-5C64-43F4-AAF4-0ADEA5E1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B1E4-9D9A-4690-A8D1-A0DB7007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22D5-5A3E-4A96-A633-2431F1D5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58B5-6710-4868-B379-C44456E6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A2F5-8428-4F78-A88D-6585080BD3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рс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я в строительств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ктор :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.х.н., доц. Григорьева  Лариса Станислав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066680" y="480060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 кур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кции – 16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ные работы –16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152280" y="385920"/>
            <a:ext cx="883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дотермические реакции идут с поглощением тепл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эффект имеет отрицательное значение, а энтальпия положитель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отермические реакции, идут с выделением тепла.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пловой эффект имеет положительное значение, а энтальпия отрицатель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28600" y="2005200"/>
            <a:ext cx="80773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ндотермическая реакция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;  +∆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зотермическая реакци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+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;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52280" y="282132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акция происходит в конденсированных фазах,  то различиями межд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∆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но пренебре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52280" y="388980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закона Гесса вытекают три важных след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нтальпия реакции равна разности энтальпий образования продуктов и реаген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52280" y="5444280"/>
            <a:ext cx="89917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∑ (∆H 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р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прод.) –  ∑ (∆H 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р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реаг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407880" y="306720"/>
            <a:ext cx="82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если уравнение реакции в общем виде записать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52280" y="9910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[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.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 + d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D) ]– [a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.)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228600" y="198612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образования это тепловой эффект реакции  образовани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го мол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единения из простых веще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ые теплоты образования вычисляют при стандартных условия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8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и 101325 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52280" y="3942720"/>
            <a:ext cx="883944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(т)+ С (граф.) +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г) = СаСО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– 1206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рмохимических уравнениях применяют дробные коэффициенты для того, чтобы показать тепловой эффект реакции при образовании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ол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228600" y="436680"/>
            <a:ext cx="8686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теплоту реа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С0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(г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аСОз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тв.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известны стандартные теплоты  образования   (из таблиц стандартных величин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AutoShape 2"/>
          <p:cNvCxnSpPr/>
          <p:nvPr/>
        </p:nvCxnSpPr>
        <p:spPr>
          <a:xfrm>
            <a:off x="4038120" y="2895480"/>
            <a:ext cx="104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Rectangle 4"/>
          <p:cNvSpPr/>
          <p:nvPr/>
        </p:nvSpPr>
        <p:spPr>
          <a:xfrm>
            <a:off x="498240" y="2487960"/>
            <a:ext cx="74793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98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ж /мол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371600" y="2872080"/>
            <a:ext cx="49528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;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Оз                    – 12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52280" y="4673520"/>
            <a:ext cx="883944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любой реакции равно разности между суммой теплот образования (энтальпий) продуктов реакци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СО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суммой энтальпий исходных продук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0" i="1" lang="ru-RU" sz="20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214560" y="406440"/>
            <a:ext cx="70729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— 1206 —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+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) =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,47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Д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идет с выделением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28600" y="1832760"/>
            <a:ext cx="8686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тальпия реакции равна разности энтальпий сгорания реагентов и проду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р = ∑ (∆H сгор.) (реаг.) –  ∑ (∆H сгор.) (про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31280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а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А + bB = cC + d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a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A) +b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B)] – [ c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C) + d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2280" y="49564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рмохимические уравнения реакций можно складывать и вычитать, умножать и делить, записывать справа налево, несмотря на подчас практическую неосуществимость обратных реа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152280" y="384480"/>
            <a:ext cx="883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ирование уравнений реакций и энтальп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третьему следствию из закона Ге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762120" y="1242360"/>
            <a:ext cx="822960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реак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 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+ ½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 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½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O +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 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380880" y="3105000"/>
            <a:ext cx="815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 + S + 2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CaS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∆Hp =∆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∆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+∆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∆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52280" y="3861360"/>
            <a:ext cx="876312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 примера можно рассмотреть и процесс образования диоксида углерода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0880" y="4929480"/>
            <a:ext cx="88722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ый вариант: получение диоксида углерода, непосредственно сжигая уго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+ 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304920" y="154440"/>
            <a:ext cx="845820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орой вариант: проведение  процесса  в две стадии: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 получение монооксида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 СО;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жигание монооксида углерода в токе кисл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 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=  С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∆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+ ∆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66880" y="2438280"/>
            <a:ext cx="3762360" cy="29718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3"/>
          <p:cNvSpPr/>
          <p:nvPr/>
        </p:nvSpPr>
        <p:spPr>
          <a:xfrm>
            <a:off x="3298680" y="5791320"/>
            <a:ext cx="17499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= ∆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∆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533520" y="338760"/>
            <a:ext cx="8381880" cy="29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щество                         Энергия кристаллической решет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Дж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хкальциевый силикат                                        107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3CaOSi0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ит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ухкальциевый силикат                                        7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2CaOSi0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сид  кальция                                                         35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Са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гашеная изве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82800" y="3505680"/>
            <a:ext cx="75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ещество обладает наибольшей способностью к гидрат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4578480"/>
            <a:ext cx="830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химические данные помогают решать и вопросы, связанные с выбором охлаждающих смес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амораживании насыщенных водой пористых строительных материалов: кирпича, бетона, грунтов и т. п.  вода превращается  в лед, что приводит к разрушению этих 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304920" y="391320"/>
            <a:ext cx="8534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 из средств предотвращения льдообразования — растворение в воде различных веществ. Это необходимо, например, при борьбе с гололедом, при производстве бетонных работ в зимнее время и в некоторых других случа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строители для снижения температуры замерзания растворов применяют растворы солей сильных электролитов. Из них большой популярностью пользуются хлорид кальция и поваренная соль (хлорид натр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52280" y="3183840"/>
            <a:ext cx="84582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мешивать соль хлорида кальция с водой в различных массовых соотношениях, то образующиеся растворы солей замерзают при различных температу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ьшей температурой является температура —55 °С;  Этой температуре соответствует раствор с концентрацие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1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5,75 кг на 100 кг воды. Такую, наименьшую температуру называют эвтектической от слова «эвтектика», что значит «хорошо обрабатываемый» (этот термин впервые был применен к сплавам) или криогидрат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228600" y="384840"/>
            <a:ext cx="848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тектика -  жидкая система (раствор или расплав), находящаяся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м давлении в равновесии с твёрдыми фазами, число которых равно  числу компонентов сис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609480" y="183384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ом раствора хлорида кальция перед многими другими солями, в том числе и перед более дешевой поваренной солью, является низкое значение его эвтектической температуры. Так, если ввести в грунт хлорид кальция, то он не замерзнет при низких температу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04920" y="3434040"/>
            <a:ext cx="883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ерзшийся грунт легко уплотняется обычными средств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«холодного» бетона это важное свойство хлорида кальция удачно сочетается с тем, что он значительно ускоряет твердение цемента, причем может одновременно несколько пластифицир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04920" y="511056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аренную соль, эвтектическая температура раствора которой ра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—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1,2 °С, можно применять при менее суровых условиях зимы, причем следует учесть, что ее действие как ускорителя твердения цементов выражено слабее, чем у хлорида каль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228600" y="312120"/>
            <a:ext cx="880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первого начала термодинамики составляют энергетический балан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может быть представлен в виде уравнения, связывающего приход и расход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химико-технологических процессов составляют тепловой баланс. Применительно к тепловому балансу закон сохранения энергии можно сформулировать следующим образ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228600" y="244512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 теплоты в данном цикле производства должен быть точно равен расходу ее в этом же цикл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должно быть учтено теплосодержание каждого компонента, как входящего, так и выходящего из процесса или аппарата, а также теплообмен с окружающей ср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52280" y="457704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теплового балан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Qпр = ΣQрас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Qпр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ΣQрасх = 0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533520" y="304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е и второе начала термодинами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685800" y="19810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Первое начало термодинамики. Энталь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685800" y="243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Закон Гесса, след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685800" y="28954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Второе начало термодинамики. Энтро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685800" y="3352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Энергия Гельмгольца. Энергия Гибб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685800" y="38862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Некоторые вопросы  химической кине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429000" y="9144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685800" y="43434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Химическое равновесие. Принцип Ле-Шателье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152280" y="46368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аппаратов (процессов) непрерывного действия тепловой баланс составляют 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у време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для аппаратов (процессов) периодического действ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время цик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ли отдельного перехода) обрабо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баланс подобно материальному, выражают в виде таблиц, диаграмм, а для расчета используют следующее у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04920" y="22104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т + Qж + Qг + Qф + Qр + Qп = Q'т + Q'ж + Q'г + Q'ф + Q'р + Q'п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28600" y="259740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ж ,Qг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вносимое в аппарат твердыми, жидкими и газообразными веществами соответственн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'т, Q'ж, Q'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теплоты, уносимое из аппарата выходящими продуктами, полупродуктами реакции и не прореагировавшими исходными веществами в твердом, жидком и газообразном ви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228600" y="411696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ф и Q'ф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физических процессов, происходящих с выделением и поглощением (Q'ф) тепло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152280" y="473184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р и Q'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выделяющееся в результате экзо- и эндотермических реакций (Q'р)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подводимое в аппарат извне (в виде дымовых газов, нагретого воздуха, сжигания топлива, электроэнергии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'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и тепла в окружающую среду, а также отвод тепла через холодильники, помещенные внутри аппа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1219320" y="229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начало термодинам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52280" y="99720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какая совокупность процессов не может сводиться к передаче тепла от холодного тела к горячему, тогда как передача тепла от горячего тела к холодному может быть  единственным результатом процессов (Клаузиу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28600" y="29019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какая совокупность процессов не может сводиться только к превращению теплоты в работу, тогда как превращение работы в теплоту может быть единственным результатом процессов (Томсо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28600" y="48790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возможно создание вечного двигателя второго рода (Остваль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80880" y="427068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, полученное для цикла Карно, является математическим выражением второго начала термодинамик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А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5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310824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1143000" y="1530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: самопроизвольные неравновесные и равновес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152280" y="924840"/>
            <a:ext cx="8686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, протекающие без затрат извне называю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извольным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процессы могут происходить как в изолированной системе, так и  откры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, которые совершаются только в результате воздействия извне, называю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ужд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и в изолированной системе происходить не могут. Для осуществления таких процессов требуется передача энергии со стороны окружающей среды в форме теплоты или р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28600" y="427392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ют обратимые и необратимые химические реак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ратимы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реакции, в ходе которых хотя бы одно из исходных веществ расходуется пол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мы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реакции, протекающие одновременно в двух взаимно противоположных направл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380880" y="35812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кий самопроизвольный процесс в конечном итоге приводит систему к равновесию. Равновесие достигается и в химических реак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152280" y="225720"/>
            <a:ext cx="8458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процессы являются истинно необратимыми. Их никаким способом нельзя провести как обратимые. Это процессы, единственным результатом  которых является превращение работы  в теплоту (например, механическое трение твердых поверхностей, внутреннее трение в жидкостях и газах, теплопроводность). Необратимые самопроизвольные процессы протекают в направлении, которое приближает систему к состоянию равновесия и связаны с передачей теплоты или беспорядочным движением молеку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04920" y="3359520"/>
            <a:ext cx="8381880" cy="30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цикла Карно приводит к представлению об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ή = А/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- (Т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учило названи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енной тепл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228600" y="391320"/>
            <a:ext cx="8610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начало термодинамики постулирует, что существует важнейшее физическое свойство систем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, ее изменение в равновесном изотермическом процессе равно приведенной теплот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для элементарного процесса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изменение энтропии происходит под действием энергии, передаваемой в виде тепл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304920" y="3256920"/>
            <a:ext cx="845820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я состоян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е изменение определяется энтропией начального и конечного состояния системы и не зависит от пути пере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экстенсивное свойство. Это означает, что общая энтропия системы равна сумме энтропий составных част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80880" y="5158080"/>
            <a:ext cx="853452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щ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= 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 изменение энтропии кругового процесса записывается так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4038480" y="5791320"/>
            <a:ext cx="2257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152280" y="376560"/>
            <a:ext cx="8458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уравнение справедливо для любого замкнутого цикла, в том числе и для самопроизвольных процес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.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н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их процессах отличаются только приведенные тепл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.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.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: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н.&gt;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80880" y="27468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яя уравнения 7 и 8 получаем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/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≤ T d S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04920" y="38120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равенство Клаузиуса представляет собой аналитическое выражение второго начала термодинами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28600" y="473112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решение уравнений  2 и 9 дает объединенное уравнение первого и второго начал термодинам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≤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V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152280" y="311400"/>
            <a:ext cx="853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статистической природы второго начала термодинамики позволило  Больцману определить статистический смысл энтропии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ln W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1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ая Больцмана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ческая вероят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228600" y="1988640"/>
            <a:ext cx="867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зависит от всех видов движения частиц, содержащихся  в молеку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аждого данного вещества энтропия возрастает при всех процессах, вызываемых движением частиц (испарение, плавление, диффузия). Энтропия возрастает при ослаблении связей между атомами в молекулах и при разрыве их. Наоборот, с упрочнением связей энтропия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33520" y="39661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ра неупорядоченности состояния системы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самопроизвольном протекании процесса в изолированной системе ее энтропия возраст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57200" y="503568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энтроп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∑ (ν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 кон. - ∑ (ν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ис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и предел течения самопроизвольных процессов для изолированных сист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не могут быть критерием направленности реальных химических процес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152280" y="997920"/>
            <a:ext cx="86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внутренней энергии, способную к превращениям и производству полезной работы. Для изохорного процесса эту энергию Гельмгольц назвал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функция или энергия Гельмгольца, изохорно-изотермический или просто изохорный потенциал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я часть теряется в виде теплоты и связана с энтропией тела и температурой процесс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вязанная энерг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0" y="290232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энерг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сумма свободной и связанной энерг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ельмгольца: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52280" y="472644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хорно-изотермических процесс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яется соотношени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556308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≤ -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- (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600200" y="306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ельмгольца. Энергия Гибб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304920" y="593424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 равенства относится к равновесному процессу, знак меньше к самопроизвольному проце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304920" y="309960"/>
            <a:ext cx="8307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обарно-изотермическом процессе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я обозначается термодинамической функцией энергией Гибб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(свободная энтальпия, изобарно-изотермический или изобарный потенциа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304920" y="2443320"/>
            <a:ext cx="830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альпия процесса равна  сумм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04920" y="549000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ем самопроизвольности процесса является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ем равновесия систем с постоянным составом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4"/>
          <p:cNvSpPr/>
          <p:nvPr/>
        </p:nvSpPr>
        <p:spPr>
          <a:xfrm>
            <a:off x="685800" y="358128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бсолютные значения энергии Гиббса и энергии Гельмгольца определить невозможно, поэтому определяют только изменения этих термодинамических потенциа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5"/>
          <p:cNvSpPr/>
          <p:nvPr/>
        </p:nvSpPr>
        <p:spPr>
          <a:xfrm>
            <a:off x="762120" y="4572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иббса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∆ Н -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вое начало термодинамики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380880" y="122436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ка – это наука, которая изучает законы взаимного превращения различных видов энергии при физических и химических процессах, определяет зависимость энергетического эффекта этих процессов от условий их протек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380880" y="25945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имической термодинамике рассматриваются основные термодинамические законы применительно к химическим и физико-химическим процесс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80880" y="3742560"/>
            <a:ext cx="8382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ая термодинамика изу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отношения между теплотой и другими формами энергии в процессе химических реак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можность самопроизвольного протекания химических реакций в данных услов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ловия, при которых реакция находится в состоянии химического равнове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0" y="516960"/>
            <a:ext cx="83059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е, возможно ли, самопроизвольное протекание данной реа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+ 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(г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Са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ешения необходимо найти свободную энергию Гибб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∆ Н 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нтальпию реакции рассчитываем, используя следствия из закона Г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80880" y="2718360"/>
            <a:ext cx="845820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— 1206 —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+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) =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стандартные величины, находим изменение энтроп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СО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2,9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О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3,6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,7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04920" y="48042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 = ∑ (ν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 кон. - ∑ (ν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ис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= 0,0929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(0,0397 + 0,2136)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1604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98∙(-0,1604)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7,67 кДж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04920" y="58694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реакция идет с уменьшением свободной энергии (энергии Гиббса), т. е. протекае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изво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380880" y="626040"/>
            <a:ext cx="8153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закон термодинамики нарушений не знает, а второй в силу его статистического характера может нарушаться. Если окажется, что второй закон нарушен, то это значит, что совершился маловероятный, но в принципе возможный процес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явление незначительных и кратковременных самопроизвольных отклонений от состояния равновесия носит названи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укту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грает существенную роль в ряде физико-химических превращений, например, в возникновении кристаллов из пересыщенных растворов, что очень важно для понимания процессов твердения вяжущих веществ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флуктуации плотности в небольших частях объема концентрация вещества оказывается несколько большей, чем средняя концентрация того же вещества во всем объеме жид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304920" y="48805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к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читывает ни фактора времени, ни фактора скорости; о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ует лишь о принципиальной возможности осуществления того или иного процес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228600" y="92088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ами скорости реакций занимается химическая кинет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кинетика — это учение о скоростях реакций, т. е. о процессах, в которых в отличие от термодинамики время в явной или неявной форме фигурирует обязатель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й кинетики является и изучение механизма химических реа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219320" y="229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вопросы химической кине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533520" y="2607480"/>
            <a:ext cx="8610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нятие механизма реакции входят данные о ее промежуточных стадиях, о скорости и последовательности протекания этих стадий, позволяющие установить, какая из них как самая медленная. Так как именно она будет определять кинетику всего процесса в ц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могенные реакции протекают в одной ф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терогенные – на поверхности раздела ф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2286000" y="3962520"/>
            <a:ext cx="436248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609480" y="542160"/>
            <a:ext cx="7925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о  скорость химической реакции характеризуют изменением концентрации реагирующих веществ в единицу времени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 = ±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редняя скорость реакции. Истинную скорость процесса определяют изменением концентрации  за бесконечно малый промежуток врем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 = ±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380880" y="282312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реакции всегда положительна. Знак минус указывает, что расчет ведется по концентрации исходных продуктов, а знак плю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концентрации конеч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80880" y="3969720"/>
            <a:ext cx="8305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ь скорости реакции  от концентрации реагирующих веществ является постулатом химической кинетик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оном действующих масс Гульдберга и Ваге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стоянной температуре скорость химической реакции прямо пропорциональна произведению концентраций реагирующих веществ, возведенных в некоторые степ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228600" y="699120"/>
            <a:ext cx="8686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еакции:              А + В =  Д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υ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 ∙ Св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константа скорости процес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терогенные реакции имеют некоторые принципиальные особенности, отличающие их от гомогенных, которые необходимо учитывать в строительной практи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, при взаимодействии твердого вещества с жидкостью (например, известняка с кислотой) суммарная макроскопическая скорость реакции в общем   виде   зависит   не   только   от концентрации кислоты, но и от реакционной поверхност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υ 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'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"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228600" y="434844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дко значение поверхности, если она в ходе реакции практически не изменяется, входит в константу скор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гетерогенного процесса лимитируется скоростью самой медленной стад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304920" y="362160"/>
            <a:ext cx="853416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химической реакции сильно изменяется с температурой. С повышением температуры она растет и лишь у некоторых многостадийных реакций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ная зависимость в основном определяется константой скорости. Для приблизительных расчетов в небольшом температурном интервале можно использовать правило Вант-Гофф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вышении температуры на каждые десять градусов скорость химической реакции увеличивается в 2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+10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80880" y="388836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мпературный коэффициент скорости химической реа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станта скор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28600" y="23364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начало (закон) термодинамики непосредственно связано с законом сохранения и превращения энергии, который устанавливает эквивалентность ее форм. Этот закон является универсальным и подтверждается всем опытом челов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52280" y="16801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 всех явлениях природы энергия не может исчезнуть бесследно или возникнуть из ничего. Энергия только превращается из одной формы в другую в строго эквивалентных соотношениях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66480" y="2667600"/>
            <a:ext cx="55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этот закон формулируют в другой форм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28600" y="30517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чный двигатель первого рода невозможен, т.е. невозможно построить машину, которая выполняла бы механическую работу, не затрачивая на это соответствующего количества молекулярной энерг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28600" y="4125240"/>
            <a:ext cx="8686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тела в природе независимо от их агрегатного состояния облад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енным запасом энерг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 энергия складывается из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инетической энергии молеку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энергии колебательного движения атомов, энергии электронов, внутриядерной энергии, энергии взаимодействия молеку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перечисленные энергии за исключением кинетической энергии системы в целом и потенциальной энергии ее положения в пространстве, составля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треннюю энерг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152280" y="46368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—совокупность тел, выделенных фактически или мысленно из окружающей ср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ы, объем и энергия которых постоянны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олирова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ояние системы характеризу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раметрами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емом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»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влением 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пературой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»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центрацией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52280" y="2445120"/>
            <a:ext cx="8991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ы, не зависящие от пути перехода системы из одного состояния в другое, а зависящие только от начального и конечного состояний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ми состоя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пример, внутренняя энергия тел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.е в изолированной системе внутренняя энергия постоянна и определяется природой составляющих ее веществ, их массой и условиями существ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2280" y="4285800"/>
            <a:ext cx="88394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олютное значение внутренней энергии определить невозможно, можно только измерить изменение внутренней энергии при переходе системы из одного состояния в другое. Если термодинамическая система с внутренней энерги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ереходит в другое состояние с энерги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изменение внутренней энергии  ∆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е зависит от пути перехода, а зависит только от начального и конечного состояния системы, определяемого параметрами состояния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05560" cy="26668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152280" y="3055320"/>
            <a:ext cx="883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абот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м вид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являют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ями состоян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связь между внутренней энергией, теплотой  и работой устанавливается на основе первого начала термодинамик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энергия может изменяться только под влиянием внешних воздействий, то есть в результате сообщения системе количества теплоты Q и совершения над ней работы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06800" y="5564520"/>
            <a:ext cx="823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, подводимая к системе, идет на приращение внутренней энер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ы и на совершение работы против внешних сил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76320" y="365760"/>
            <a:ext cx="876276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А    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уравнение представляет собой математическую формулировку первого закона термодинам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охорном процессе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теплота равна приращению внутренней энер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все тепло расходуется на изменение внутренней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3148200"/>
            <a:ext cx="8991720" cy="36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  изобарном процесс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совершается только работа расшир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(2)                     где  А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                    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Н, 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∆Н.  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304920" y="365760"/>
            <a:ext cx="876276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ш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ческая функция, называемая энтальпией  (тепловая функция или теплосодержание систем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характеризует внутреннее состояние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й смысл энтальп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если процесс идет при постоянном давлении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то изменение энтальпии будет включать в себя изменение внутренней энергии и то количества тепла, которое расходуется на расширение системы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альпия представляет собой энергию расширенной систе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(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52280" y="351180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теплота изобарного процесса равна приращению энтальпии системы во время эт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охорном и изобарном процессах теплота становится функцией состояния. Она не зависит от пути процесса, а зависит только от начального и конечного состояния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0" y="1631160"/>
            <a:ext cx="914400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химических реакциях происходит изменение внутренней энергии системы. Если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разность внутренних энергий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ется в виде тепл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величении внутренней энергии 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реакция идет с поглощением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ичество теплоты, выделяющееся или поглощающееся при реакции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зывается тепловым эффек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38080" y="3986280"/>
            <a:ext cx="78487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хорный процесс: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ет     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арный процесс: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оответствует     ∆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23004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Гесса. След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228600" y="51055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эффект химической реакции зависит только от вида и состояния исходных веществ и конечных продуктов, но не зависит от промежуточных состояний и путей перех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кон Гес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1371600" y="762120"/>
            <a:ext cx="777240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+ В              →             С+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ные реагенты            продукты ре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2-15T09:56:07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